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7437-98E6-480F-8E5A-237FA24CBCC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olzen als beidseitig eingespannter Trä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4F0F-1322-46B1-9A87-207BF157936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olzen als mittig eingespannter Trä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82AC-412E-4522-B993-F0542D1037F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nenn = Stangenk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A = Anwendungsfaktor zur Berücksichtigung stoßartiger Belastung (zwischen 1,0 fü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ringe und über 2,25 für starke stoßartige Belastu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σbzul = zulässige Biegespannung, typ. 0,3 Rm bei ruhender, 0,2 Rm bei schwellender, 0,15 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 wechselnder Belast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 = Einspannfaktor – abhängig vom Einbaufall (Werte in Klammern für Gleitverbindung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= 1,6 (1,9) Einbaufall 1 (Bolzen lose in Stange und Gab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= 1,1 (1,4) Einbaufall 2 (Bolzen mit Übermaßpassung in Gab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= 1,1 (1,2) Einbaufall 3 (Bolzen mit Übermaßpassung in der St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FD3B-F0C9-4B8A-B0C6-E85588C0698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s = Querschnittsfläche des Bolz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7331-6276-453F-94C9-90AAD356434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Für Passgenauigkei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wenn die Verbindung öfters gelöst werden so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Kegel gleicht Abnutzung oder Lochaufweitung 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Einsatz meist als Passstifte, aber auch als Verbindungsstif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Aufreiben der kegeligen Bohrung ist erforderlich, daher relativ teuer in der Herstellu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Nicht rüttelf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Kegelstifte werden in ungehärtetem Zustand eingesetz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Gewinde zum leichteren Lö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977B-6C59-4C82-961E-0F5ABED656D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Aus ungehärtetem Stahl und aus austenitischem nichtrostenden Stah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Bohrung muss aufgerieben werden - &gt; teu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Für hochbeanspruchte Teile durchgehärtete oder einsatzgehärtete Stif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Zylinderstifte mit Innengewinde, wenn Stift nicht herausgeschlagen werden k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Abflachung oder Längsrille dient zum Abfließen von Luft oder Ö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Achtung auf Schwächung der Welle durch Bohr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9727-E956-4A64-87AD-4017A2ED766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3 Kerbwulstpaare am Umf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Bohrung einfach herstellbar (kein Aufreib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Mein Einpressen nur elastische Verformung der Kerbwul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Rüttelfeste Verbind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Mehrfach wieder verwendb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Sehr wirtschaftliche Verbind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Einsatz als Sicherungsstift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Kerbnägel für gering beanspruchte Te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erbstifte i.d.R. aus Stahl oder austenitischem nichtrostenden Stah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ärte der Stifte soll größer sein als die der Baute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BEEB-2311-4263-8A59-306D1F97FC0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äufig angewendet als Gelenkverbindu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e enger die Passungen, umso genauer die Führu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s kann aber auch Gründe für großes Spiel geben, z.B. zur Aufnahme von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Wärmedehnungen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oder falls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tarke Verschmutzungen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erwartet werden -&gt; Gelenk bleibt a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nter diesen Bedingungen leichtgängi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9750-4F4D-40A6-B738-117BEBE36F6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ypische Hauptbeanspruch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tisch: Biegung  (ETB S.4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leitend (Lager): Flächenpress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Zusätzlich: Schu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0997-A9C6-4C7C-8CEE-7D507118429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egebelastung: frei auflie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M S. 2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8FAD-A2E8-4EA7-A94A-4ABB81396DC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762B-EBA4-4291-94EC-DD07D4FC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172C-7C84-4DDB-97BD-E76AC934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FC8-E67B-4EE5-B815-C0C3003C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7D6-B8CB-4DA0-BD9B-A0FAB915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E86E-A929-478E-84DB-C0B62B85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64D9-F973-45F8-ABCA-7F8BDEEA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C3E2-301C-4DBC-838D-315986C6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BAF6-3201-474E-BF2A-716D4FE5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3481-E8B9-4FA1-8EB3-854223AA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19C4-1E3D-4A05-B8A0-C93338CB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B069-E73C-420C-9527-A9F579AD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BE3-8FCF-4771-9D4D-414B287E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0BE8-3623-44F1-A6AC-50F35464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BD8F-DA32-42EE-98D3-93A39A9E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259B-7D77-4371-8780-0D29B5F3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8C85-8DAF-4A3A-91D3-576D2D59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1901-49E7-4915-BE94-4EDED926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ED934-85D9-4A96-87BA-E7D796B0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007DF-1231-4C20-9C49-E5FB0A35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3E2D7-E1D6-46B8-9809-EFBE8211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E8F61-468F-4780-90B6-AB8578ED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F8127-B13E-4184-BE89-D0DD2685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BE6-BBD7-4F0C-95E9-1A87A59D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25B6D-F531-483C-B0CA-B41D19D8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D8CAA-FC78-4369-BBE4-C88A0EC4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0A162-FD8E-4A78-B721-60F242F8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619DB-18F1-4D66-A4DE-643D082F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5506D-681E-466F-9919-8506FDF2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3D940-01D0-4B7C-981C-54DAC56C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156B0-E261-4B33-8022-6038B79E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F24E3-6096-40EF-AE61-68F3E000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62C94A-2D53-434F-91FD-9368DC9C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50B06C-217C-4771-9B48-4E65CB54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9DD-06E4-4E98-8838-8756C1E0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A6729-14F3-4C64-A7BE-B38A1E00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BE6C2-96D4-4DF8-BF5B-B0CF4B33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A6601A-6D9F-4183-9B61-C07F2DD1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7C6E2-288B-46C5-AC9B-528EF130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2C9B33-CA73-488D-B69C-9B3B55E4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76B9F7-A08A-46DB-9A3E-9501EE87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888C9-5BF9-44FC-B4DC-0BA0D185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8B7CD-FDEA-48DA-9D2A-07D54CAB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5DDC15-733A-48A6-B8E7-00657F37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664C5-1694-45BE-AC19-7373D4F9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46D-656E-4E82-B415-FC76602F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167FE0-18A0-4A8C-A51E-DAEBBB96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A0150-85F8-4C9B-8F81-E540D4FA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31FBE-A95D-4DC9-A689-85B13DFB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F6139-44E9-4281-8E84-3453A6AB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C56219-4D70-4606-AC8C-D73AD0E2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234937-A9BE-4B71-B43C-69918309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4318A-25F5-4B90-95F3-764C2E16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66CDF-660A-44CE-BC85-61ED5E60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B557F-FB73-4749-B64D-18692B36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AC0F5-B886-4776-8684-272C1721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5C4-FDCB-447E-A7B4-FCDDF484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C90DE-8D4D-46FF-955F-F659A759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69CF9-F507-4FF1-98E3-6E509E6A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D8388-9C35-4B01-88E8-0CCA23A7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A63CC-4EFC-4205-9B42-9EC930F8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FCB0D-8F1E-47DA-9BA0-13399DB9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860F6-74E5-4DA8-A067-F37A2CED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775D9-15E1-418E-AF3A-3B60D495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A793E-F61B-4528-9A7B-E7F82B70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FB805-A2DC-4FD9-87C9-892222BB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87691-A384-4557-865C-1123F8B9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B36-0311-46D7-9057-59F37E6D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7B0D4-2BC4-4819-BB53-656980A2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9C6C3-9ECC-4C1A-BB9E-87CA8E18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4C405-4EE3-4404-97E0-6A75C121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FD3A8-1F60-44B5-94BF-3E5C4874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F88B3-9D06-4C82-A618-13B9E2DC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58E4F-3164-42C7-8D4E-CE43E37E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1E9E17-922D-4434-965D-7102C974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424CD5-E3F6-4EEB-8988-2678AB6C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D5D9C3-F125-4DA4-B3D1-0E3D03DE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237F7E-7E42-4B46-978A-CEAFB72A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465A-501D-417F-8C34-3BA6E66B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83F59E-1C06-44DC-B76F-33A1A8D7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1031EB-A021-4B48-956B-6D637577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377980-41EC-4B79-93CA-9F3A0E4A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14313D-157E-484F-BBAA-0BA9CCE5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9F7C5-2803-4220-899E-26E80D5A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1AAC5-AA95-423E-8413-C09A55AF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BCD80-5626-488C-887A-52613E3E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1B86B-AB25-4909-9FA0-37A2D3FA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63B91-8A5A-4820-968D-E100143C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EE50E-1975-4E70-BC33-1A35EBB6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F67-ED44-47FD-935D-E2D1AC3F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49AB2-C523-4914-826B-A12ABEC1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638F8-A12D-4649-8CA6-B2026499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3E97A-6E34-40E4-94CD-5A6F418D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61318-D6BD-4096-A313-DF94C89F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E8AB8-4204-429E-B983-62849F3F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3557A-B490-45FA-968E-59A609A0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F7397-5453-415D-8058-1E9D9E2B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8C1A-3CCD-4928-8BC7-87E251BFA89B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ec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ec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c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9532-0051-4EE9-9A15-740F8EFC5857}" type="slidenum">
              <a:rPr b="1" lang="de-DE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ec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ec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ec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9627-A93C-40F7-B48E-EED6E9F26CDE}" type="datetime">
              <a:rPr b="0" lang="de-DE" sz="2000" spc="-1" strike="noStrike">
                <a:solidFill>
                  <a:srgbClr val="ffffff"/>
                </a:solidFill>
                <a:latin typeface="Tw Cen MT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FCC1-D773-431D-BBA8-4A84DE5DEC1C}" type="slidenum">
              <a:rPr b="1" lang="de-DE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ec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ec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F61A-CBEC-427A-BAFF-424D2EA5B17F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D718-9146-4A87-9F19-BEF56DAE17CA}" type="slidenum">
              <a:rPr b="1" lang="de-DE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c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ec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ec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E075-8B36-4A99-9B3C-16C15EF91B55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5B19-042C-4469-9F14-0761D2B8B8E4}" type="slidenum">
              <a:rPr b="1" lang="de-DE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ec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ec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331B-37D5-4B18-A756-53963394B168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F41A-AF65-4AF2-AA67-4D7A03C51487}" type="slidenum">
              <a:rPr b="1" lang="de-DE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0E8F-2BC9-4596-839D-605EF86C01BC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5C11-14B4-45E3-99F0-2E6C1253EF46}" type="slidenum">
              <a:rPr b="1" lang="de-DE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ec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ec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ec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ec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4856-885A-424A-A497-67ACC31219E8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C88B-F16A-4A11-B52E-FC89FA7AB294}" type="slidenum">
              <a:rPr b="1" lang="de-DE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ec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ec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ec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BE63-239B-40ED-A985-BC085F49E002}" type="datetime">
              <a:rPr b="0" lang="de-DE" sz="1400" spc="-1" strike="noStrike">
                <a:solidFill>
                  <a:srgbClr val="775f55"/>
                </a:solidFill>
                <a:latin typeface="Tw Cen MT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D8C7-595C-46FD-A295-C48F05BF3717}" type="slidenum">
              <a:rPr b="1" lang="de-DE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bddc3"/>
                </a:solidFill>
                <a:latin typeface="Tw Cen MT"/>
              </a:rPr>
              <a:t>BOLZEN- UND STIFTVERBINDUNGE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w Cen MT"/>
              </a:rPr>
              <a:t>Von Susanne Bartels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 u="sng">
                <a:solidFill>
                  <a:srgbClr val="000000"/>
                </a:solidFill>
                <a:uFillTx/>
                <a:latin typeface="Tw Cen MT"/>
              </a:rPr>
              <a:t>Einbaufall 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olzen sitzt in der Gabel mit Übermaßpassung u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in der Stange mit einer Spielpa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 rot="5400000">
            <a:off x="3345120" y="3712320"/>
            <a:ext cx="2667240" cy="23576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98" name="Gerade Verbindung 5"/>
          <p:cNvSpPr/>
          <p:nvPr/>
        </p:nvSpPr>
        <p:spPr>
          <a:xfrm>
            <a:off x="4000680" y="4572000"/>
            <a:ext cx="28548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Gerade Verbindung 6"/>
          <p:cNvSpPr/>
          <p:nvPr/>
        </p:nvSpPr>
        <p:spPr>
          <a:xfrm>
            <a:off x="4000680" y="5000760"/>
            <a:ext cx="28548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Gerade Verbindung 7"/>
          <p:cNvSpPr/>
          <p:nvPr/>
        </p:nvSpPr>
        <p:spPr>
          <a:xfrm>
            <a:off x="5072040" y="4572000"/>
            <a:ext cx="28584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Gerade Verbindung 8"/>
          <p:cNvSpPr/>
          <p:nvPr/>
        </p:nvSpPr>
        <p:spPr>
          <a:xfrm>
            <a:off x="5072040" y="5000760"/>
            <a:ext cx="28584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Gerade Verbindung 9"/>
          <p:cNvSpPr/>
          <p:nvPr/>
        </p:nvSpPr>
        <p:spPr>
          <a:xfrm>
            <a:off x="4286160" y="4572000"/>
            <a:ext cx="7858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Gerade Verbindung 11"/>
          <p:cNvSpPr/>
          <p:nvPr/>
        </p:nvSpPr>
        <p:spPr>
          <a:xfrm>
            <a:off x="4286160" y="5000760"/>
            <a:ext cx="7858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feld 12"/>
          <p:cNvSpPr/>
          <p:nvPr/>
        </p:nvSpPr>
        <p:spPr>
          <a:xfrm>
            <a:off x="6143760" y="4786200"/>
            <a:ext cx="85716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feld 14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 u="sng">
                <a:solidFill>
                  <a:srgbClr val="000000"/>
                </a:solidFill>
                <a:uFillTx/>
                <a:latin typeface="Tw Cen MT"/>
              </a:rPr>
              <a:t>Einbaufall 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olzen sitzt in der Stange mit einer Übermaß-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passung und in der Gabel mit einer Spielpa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 rot="5400000">
            <a:off x="3345120" y="3712320"/>
            <a:ext cx="2667240" cy="23576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09" name="Gerade Verbindung 4"/>
          <p:cNvSpPr/>
          <p:nvPr/>
        </p:nvSpPr>
        <p:spPr>
          <a:xfrm>
            <a:off x="4286160" y="4572000"/>
            <a:ext cx="78588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Gerade Verbindung 6"/>
          <p:cNvSpPr/>
          <p:nvPr/>
        </p:nvSpPr>
        <p:spPr>
          <a:xfrm>
            <a:off x="4286160" y="5000760"/>
            <a:ext cx="78588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Gerade Verbindung 7"/>
          <p:cNvSpPr/>
          <p:nvPr/>
        </p:nvSpPr>
        <p:spPr>
          <a:xfrm>
            <a:off x="4000680" y="4572000"/>
            <a:ext cx="2854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Gerade Verbindung 9"/>
          <p:cNvSpPr/>
          <p:nvPr/>
        </p:nvSpPr>
        <p:spPr>
          <a:xfrm>
            <a:off x="4000680" y="5000760"/>
            <a:ext cx="2854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Gerade Verbindung 10"/>
          <p:cNvSpPr/>
          <p:nvPr/>
        </p:nvSpPr>
        <p:spPr>
          <a:xfrm>
            <a:off x="5072040" y="4572000"/>
            <a:ext cx="285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Gerade Verbindung 11"/>
          <p:cNvSpPr/>
          <p:nvPr/>
        </p:nvSpPr>
        <p:spPr>
          <a:xfrm>
            <a:off x="5072040" y="5000760"/>
            <a:ext cx="285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feld 12"/>
          <p:cNvSpPr/>
          <p:nvPr/>
        </p:nvSpPr>
        <p:spPr>
          <a:xfrm>
            <a:off x="6143760" y="4786200"/>
            <a:ext cx="85716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feld 14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erechnung des Bolzendurchmess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428760" y="3071880"/>
            <a:ext cx="1611000" cy="947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20" name="Textfeld 8"/>
          <p:cNvSpPr/>
          <p:nvPr/>
        </p:nvSpPr>
        <p:spPr>
          <a:xfrm>
            <a:off x="785880" y="4214880"/>
            <a:ext cx="100008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43280" y="2357280"/>
            <a:ext cx="3810240" cy="24861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22" name="Textfeld 10"/>
          <p:cNvSpPr/>
          <p:nvPr/>
        </p:nvSpPr>
        <p:spPr>
          <a:xfrm>
            <a:off x="6286680" y="5000760"/>
            <a:ext cx="8571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3"/>
          <a:stretch/>
        </p:blipFill>
        <p:spPr>
          <a:xfrm>
            <a:off x="2786040" y="2143080"/>
            <a:ext cx="1028880" cy="2495520"/>
          </a:xfrm>
          <a:prstGeom prst="rect">
            <a:avLst/>
          </a:prstGeom>
          <a:ln w="0">
            <a:noFill/>
          </a:ln>
        </p:spPr>
      </p:pic>
      <p:sp>
        <p:nvSpPr>
          <p:cNvPr id="424" name="Textfeld 12"/>
          <p:cNvSpPr/>
          <p:nvPr/>
        </p:nvSpPr>
        <p:spPr>
          <a:xfrm>
            <a:off x="3000240" y="4786200"/>
            <a:ext cx="78588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hteck 13"/>
          <p:cNvSpPr/>
          <p:nvPr/>
        </p:nvSpPr>
        <p:spPr>
          <a:xfrm>
            <a:off x="4714920" y="2428920"/>
            <a:ext cx="3643200" cy="928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hteck 14"/>
          <p:cNvSpPr/>
          <p:nvPr/>
        </p:nvSpPr>
        <p:spPr>
          <a:xfrm>
            <a:off x="4714920" y="4500720"/>
            <a:ext cx="1500120" cy="214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hteck 15"/>
          <p:cNvSpPr/>
          <p:nvPr/>
        </p:nvSpPr>
        <p:spPr>
          <a:xfrm>
            <a:off x="4714920" y="4071960"/>
            <a:ext cx="3714840" cy="42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17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erechnung der Bolzen län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4643280" y="2357280"/>
            <a:ext cx="3810240" cy="24861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32" name="Rechteck 4"/>
          <p:cNvSpPr/>
          <p:nvPr/>
        </p:nvSpPr>
        <p:spPr>
          <a:xfrm>
            <a:off x="4714920" y="3429000"/>
            <a:ext cx="335736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Grafik 6" descr="617px-Neues_Bild_(2).jpg"/>
          <p:cNvPicPr/>
          <p:nvPr/>
        </p:nvPicPr>
        <p:blipFill>
          <a:blip r:embed="rId2"/>
          <a:stretch/>
        </p:blipFill>
        <p:spPr>
          <a:xfrm>
            <a:off x="714240" y="2357280"/>
            <a:ext cx="2428920" cy="250200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34" name="Textfeld 7"/>
          <p:cNvSpPr/>
          <p:nvPr/>
        </p:nvSpPr>
        <p:spPr>
          <a:xfrm>
            <a:off x="714240" y="5572080"/>
            <a:ext cx="2357640" cy="405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l = 2 x 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w Cen MT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 + 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w Cen MT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 + 2 x z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feld 8"/>
          <p:cNvSpPr/>
          <p:nvPr/>
        </p:nvSpPr>
        <p:spPr>
          <a:xfrm>
            <a:off x="6286680" y="5000760"/>
            <a:ext cx="8571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feld 10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chubspannung in der Nulllin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785880" y="3214800"/>
            <a:ext cx="3085920" cy="742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4643280" y="2928960"/>
            <a:ext cx="3643560" cy="10717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41" name="Rechteck 7"/>
          <p:cNvSpPr/>
          <p:nvPr/>
        </p:nvSpPr>
        <p:spPr>
          <a:xfrm>
            <a:off x="4714920" y="3500280"/>
            <a:ext cx="3500280" cy="500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feld 8"/>
          <p:cNvSpPr/>
          <p:nvPr/>
        </p:nvSpPr>
        <p:spPr>
          <a:xfrm>
            <a:off x="1785960" y="4143240"/>
            <a:ext cx="100008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100/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feld 9"/>
          <p:cNvSpPr/>
          <p:nvPr/>
        </p:nvSpPr>
        <p:spPr>
          <a:xfrm>
            <a:off x="5857920" y="4143240"/>
            <a:ext cx="8571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feld 11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mittlere Flächenpre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928800" y="2643120"/>
            <a:ext cx="2476440" cy="8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48" name="Textfeld 6"/>
          <p:cNvSpPr/>
          <p:nvPr/>
        </p:nvSpPr>
        <p:spPr>
          <a:xfrm>
            <a:off x="1571760" y="3714840"/>
            <a:ext cx="100008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100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2"/>
          <a:stretch/>
        </p:blipFill>
        <p:spPr>
          <a:xfrm>
            <a:off x="5072040" y="2428920"/>
            <a:ext cx="2857680" cy="14479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50" name="Rechteck 8"/>
          <p:cNvSpPr/>
          <p:nvPr/>
        </p:nvSpPr>
        <p:spPr>
          <a:xfrm>
            <a:off x="5072040" y="2428920"/>
            <a:ext cx="2000160" cy="714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hteck 9"/>
          <p:cNvSpPr/>
          <p:nvPr/>
        </p:nvSpPr>
        <p:spPr>
          <a:xfrm>
            <a:off x="5072040" y="3214800"/>
            <a:ext cx="285768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feld 10"/>
          <p:cNvSpPr/>
          <p:nvPr/>
        </p:nvSpPr>
        <p:spPr>
          <a:xfrm>
            <a:off x="6072120" y="4000680"/>
            <a:ext cx="8571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FS S.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3"/>
          <a:stretch/>
        </p:blipFill>
        <p:spPr>
          <a:xfrm>
            <a:off x="1143000" y="4286160"/>
            <a:ext cx="1928880" cy="18907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54" name="Textfeld 12"/>
          <p:cNvSpPr/>
          <p:nvPr/>
        </p:nvSpPr>
        <p:spPr>
          <a:xfrm>
            <a:off x="1785960" y="6357960"/>
            <a:ext cx="64296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ETB S.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feld 13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Tw Cen MT"/>
              </a:rPr>
              <a:t>Stiftverbindungen</a:t>
            </a: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 werden hergestellt, indem in eine durch alle zu verbindenden Teile gehende Aufnahmebohrung ein Stift mit Übermaß eingedrückt wir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Die entstehende Verbindung ist form- und kraftschlüssi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3500280" y="4572000"/>
            <a:ext cx="1860840" cy="158580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59" name="Textfeld 5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Einsatzgebiete Stif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icherung der Lage (Fixzierung/Zentrierung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icherung gegen verdreh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Halterung von Feder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icherung von Bolzen und Mutter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Wegbegrenzung von Maschinenteilen (Anschlagstif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2" name="Grafik 4" descr="http://www.einachser.org/schmiedag/Fahrwerk-Dateien/image009.jpg"/>
          <p:cNvPicPr/>
          <p:nvPr/>
        </p:nvPicPr>
        <p:blipFill>
          <a:blip r:embed="rId1"/>
          <a:stretch/>
        </p:blipFill>
        <p:spPr>
          <a:xfrm>
            <a:off x="2714760" y="4357800"/>
            <a:ext cx="3809880" cy="2320920"/>
          </a:xfrm>
          <a:prstGeom prst="rect">
            <a:avLst/>
          </a:prstGeom>
          <a:ln w="0">
            <a:noFill/>
          </a:ln>
        </p:spPr>
      </p:pic>
      <p:sp>
        <p:nvSpPr>
          <p:cNvPr id="463" name="Ellipse 5"/>
          <p:cNvSpPr/>
          <p:nvPr/>
        </p:nvSpPr>
        <p:spPr>
          <a:xfrm>
            <a:off x="3000240" y="5429160"/>
            <a:ext cx="571680" cy="500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Ellipse 7"/>
          <p:cNvSpPr/>
          <p:nvPr/>
        </p:nvSpPr>
        <p:spPr>
          <a:xfrm>
            <a:off x="5857920" y="5429160"/>
            <a:ext cx="571320" cy="500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feld 8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Stiftart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Kegelstif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3857760" y="2000160"/>
            <a:ext cx="4071960" cy="39085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69" name="Textfeld 5"/>
          <p:cNvSpPr/>
          <p:nvPr/>
        </p:nvSpPr>
        <p:spPr>
          <a:xfrm>
            <a:off x="571680" y="2857680"/>
            <a:ext cx="292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für durchgehende 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mit Gewindezapfen, für Grund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mit Innengewinde, für Grund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feld 6"/>
          <p:cNvSpPr/>
          <p:nvPr/>
        </p:nvSpPr>
        <p:spPr>
          <a:xfrm>
            <a:off x="5286240" y="6072120"/>
            <a:ext cx="121464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81 Bild 9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feld 8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Stiftart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Zylinderstif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4" name="Picture 3" descr=""/>
          <p:cNvPicPr/>
          <p:nvPr/>
        </p:nvPicPr>
        <p:blipFill>
          <a:blip r:embed="rId1"/>
          <a:stretch/>
        </p:blipFill>
        <p:spPr>
          <a:xfrm>
            <a:off x="4071960" y="2357280"/>
            <a:ext cx="4572000" cy="28479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75" name="Textfeld 7"/>
          <p:cNvSpPr/>
          <p:nvPr/>
        </p:nvSpPr>
        <p:spPr>
          <a:xfrm>
            <a:off x="214200" y="3143160"/>
            <a:ext cx="407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für durchgehende 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-d) mit Innengewinde und Abflachung oder Längsrille zur Druckentla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e) lösen mit hilfe einer Abziehschra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f) lösen mit Hilfe eines Schlaggewich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feld 8"/>
          <p:cNvSpPr/>
          <p:nvPr/>
        </p:nvSpPr>
        <p:spPr>
          <a:xfrm>
            <a:off x="5715000" y="5429160"/>
            <a:ext cx="121428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81 Bild 9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feld 10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Überblic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Defini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Einsatzgebie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Vor- und Nachtei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Dimensionier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erechnung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Textfeld 4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Stiftart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Kerbstif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3786120" y="2786040"/>
            <a:ext cx="4345200" cy="23954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481" name="Textfeld 5"/>
          <p:cNvSpPr/>
          <p:nvPr/>
        </p:nvSpPr>
        <p:spPr>
          <a:xfrm>
            <a:off x="500040" y="26431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Kerbprin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Pass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Zylinder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Kegel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Pass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Zylinderkerbstift mit F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Steck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Knebelkerbst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Halbrundkerbna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k)   Senkkerbna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feld 6"/>
          <p:cNvSpPr/>
          <p:nvPr/>
        </p:nvSpPr>
        <p:spPr>
          <a:xfrm>
            <a:off x="5357880" y="5357880"/>
            <a:ext cx="121428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82 Bild 9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feld 8"/>
          <p:cNvSpPr/>
          <p:nvPr/>
        </p:nvSpPr>
        <p:spPr>
          <a:xfrm>
            <a:off x="842976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Unter einem </a:t>
            </a:r>
            <a:r>
              <a:rPr b="1" lang="de-DE" sz="2900" spc="-1" strike="noStrike">
                <a:solidFill>
                  <a:srgbClr val="000000"/>
                </a:solidFill>
                <a:latin typeface="Tw Cen MT"/>
              </a:rPr>
              <a:t>Bolzen</a:t>
            </a: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 versteht man ein Maschinenelement zur gelenkigen Verbindung von Werkstück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olzen können verschraubt oder durch Sicherungsstifte in der Verbindung gehalten werd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000240" y="4286160"/>
            <a:ext cx="2957760" cy="191448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65" name="Textfeld 5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Einsatzgebiete Bolz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Lose und feste Verbindung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Verdrehsicherung für Naben/Well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Gelenkbolz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Lagegenaue Fixierung von Bauteil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Halterung für Feder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3429000" y="4429080"/>
            <a:ext cx="2357280" cy="2043000"/>
          </a:xfrm>
          <a:prstGeom prst="rect">
            <a:avLst/>
          </a:prstGeom>
          <a:ln w="0">
            <a:noFill/>
          </a:ln>
        </p:spPr>
      </p:pic>
      <p:sp>
        <p:nvSpPr>
          <p:cNvPr id="369" name="Textfeld 6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Vortei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Es lassen sich ungleiche Werkstoffe leicht verbind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Einfache Herstell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Kostengünstige Herstell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Verbindung ist leicht lösb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Textfeld 4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Nachteile</a:t>
            </a: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Faserverlauf wird durch Bohrungen unterbroch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Ermüdungsrisse können an den Bohrungen auftret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Durch nötige Überlappung höheres Gewich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pannungen am Bohrloch durch dickere Wandungen ausgleich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Textfeld 4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Bolzenart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7" name="Picture 7" descr=""/>
          <p:cNvPicPr/>
          <p:nvPr/>
        </p:nvPicPr>
        <p:blipFill>
          <a:blip r:embed="rId1"/>
          <a:stretch/>
        </p:blipFill>
        <p:spPr>
          <a:xfrm>
            <a:off x="928800" y="1603440"/>
            <a:ext cx="5643360" cy="33685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78" name="Textfeld 4"/>
          <p:cNvSpPr/>
          <p:nvPr/>
        </p:nvSpPr>
        <p:spPr>
          <a:xfrm>
            <a:off x="1214280" y="521496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olzen ohne Ko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olzen ohne Kopf mit Splintlö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olzen mit Kopf und Splintl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Bolzen mit Kopf und Gewindezap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feld 5"/>
          <p:cNvSpPr/>
          <p:nvPr/>
        </p:nvSpPr>
        <p:spPr>
          <a:xfrm>
            <a:off x="6715080" y="3071880"/>
            <a:ext cx="121464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4 Bild 9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hteck 6"/>
          <p:cNvSpPr/>
          <p:nvPr/>
        </p:nvSpPr>
        <p:spPr>
          <a:xfrm>
            <a:off x="1071720" y="1857240"/>
            <a:ext cx="1143000" cy="271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feld 8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Beanspruchung der Bolz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auf Bieg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auf Schu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auf Flächenpre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Abscher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 rot="5400000">
            <a:off x="4905720" y="2302560"/>
            <a:ext cx="4162320" cy="367812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85" name="Textfeld 4"/>
          <p:cNvSpPr/>
          <p:nvPr/>
        </p:nvSpPr>
        <p:spPr>
          <a:xfrm>
            <a:off x="6357960" y="6357960"/>
            <a:ext cx="1357200" cy="39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5 Bild 9-2 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feld 6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5148360" y="2060640"/>
            <a:ext cx="367812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775f55"/>
                </a:solidFill>
                <a:latin typeface="Tw Cen MT"/>
              </a:rPr>
              <a:t>Dimensionieru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59984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 u="sng">
                <a:solidFill>
                  <a:srgbClr val="000000"/>
                </a:solidFill>
                <a:uFillTx/>
                <a:latin typeface="Tw Cen MT"/>
              </a:rPr>
              <a:t>Einbaufall 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Bolzen sitzt in der Gabel und in der Stange m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Tw Cen MT"/>
              </a:rPr>
              <a:t>Spielpas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 rot="5400000">
            <a:off x="3345120" y="3712320"/>
            <a:ext cx="2667240" cy="235764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391" name="Gerade Verbindung 5"/>
          <p:cNvSpPr/>
          <p:nvPr/>
        </p:nvSpPr>
        <p:spPr>
          <a:xfrm>
            <a:off x="4000680" y="4572000"/>
            <a:ext cx="135720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Gerade Verbindung 6"/>
          <p:cNvSpPr/>
          <p:nvPr/>
        </p:nvSpPr>
        <p:spPr>
          <a:xfrm>
            <a:off x="4000680" y="5000760"/>
            <a:ext cx="135720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feld 7"/>
          <p:cNvSpPr/>
          <p:nvPr/>
        </p:nvSpPr>
        <p:spPr>
          <a:xfrm>
            <a:off x="6143760" y="4786200"/>
            <a:ext cx="857160" cy="246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w Cen MT"/>
              </a:rPr>
              <a:t>RM S. 2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feld 9"/>
          <p:cNvSpPr/>
          <p:nvPr/>
        </p:nvSpPr>
        <p:spPr>
          <a:xfrm>
            <a:off x="8715240" y="6500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w Cen MT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8:17:41Z</dcterms:created>
  <dc:creator>Susanne</dc:creator>
  <dc:description/>
  <dc:language>en-US</dc:language>
  <cp:lastModifiedBy>Susanne</cp:lastModifiedBy>
  <dcterms:modified xsi:type="dcterms:W3CDTF">2010-08-23T14:05:11Z</dcterms:modified>
  <cp:revision>81</cp:revision>
  <dc:subject/>
  <dc:title>Bolzen- und Stiftverbindungen</dc:title>
</cp:coreProperties>
</file>